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39F-0BB7-40D9-BE13-8AA993A9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8E6-3B16-44B9-BAA6-F0E694DE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6C7D-1459-4E93-A5AF-5AD4869F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B38-AFB7-4ADA-8560-3FA78679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572-ABF8-45B6-8027-B32C0EF4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45C-06BD-4BE6-BB6B-91D9DE1F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373-098E-464D-A9E3-C115C94E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2A6-0DE2-4D6B-8646-B6B629FF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B2E3-2A76-4E47-B77D-BB17DDFF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58E-3562-4267-B186-F1C9D2A5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53C7-C8F5-4791-84F4-B64676B4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C34-EFE5-4770-B19B-C4160B1D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22AE-A831-4AB7-A3DD-939875C5C1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0000ff"/>
                </a:solidFill>
                <a:latin typeface="Comic Sans MS"/>
              </a:rPr>
              <a:t>LA MAFIA</a:t>
            </a:r>
            <a:br>
              <a:rPr sz="1200"/>
            </a:b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820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zione della mafia</a:t>
            </a:r>
            <a:br>
              <a:rPr sz="36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FI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olenta offensiva mafiosa contro rappresentanti del governo statale e locale, investigatori e agenti delle forze dell'ordine, giudici, comuni cittadini, giornalisti, chiunque ostacolasse o denunciasse le nuove alleanze politiche e mafios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UNI NOMI ILLUS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ersanti Mattarella, Pio La Torre, Carlo Alberto Dalla Chiesa, Rocco Chinnici, Giuseppe Fava, Rosario Liva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ovanni Falcone e Paolo Borsell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64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posta del Pae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e reazione dell'opinione pubblica italiana, soprattutto sicilia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zia la collaborazione a livello internazionale con gli organismi anticrimine degli altri Pae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gono utilizzati i “pentiti” o "collaboratori di giustizia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gono arrestati famosi boss latitan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L’US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usura è un reato che consiste nel prestare soldi ad interessi molto alti, che non sono quelli stabiliti dalla leg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interessi imposti,  dagli usurai sono talmente alti che restituire il prestito diventa molto difficile o addirittura impossi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 presta soldi a queste condizioni conta di impadronirsi dei beni del debitore e/o delle sue attivit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BUSINESS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rande traffico di arm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traffico internazionale di drog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stors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E VARIE FORME DEL REATO DI ESTORSIONE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-Bold"/>
                <a:ea typeface="Times New Roman"/>
              </a:rPr>
              <a:t>intimidazione ambienta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-Bold"/>
                <a:ea typeface="Times New Roman"/>
              </a:rPr>
              <a:t>pagamento spontaneo o concorda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-Bold"/>
                <a:ea typeface="Times New Roman"/>
              </a:rPr>
              <a:t>imposizione di personale da assum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-Bold"/>
                <a:ea typeface="Times New Roman"/>
              </a:rPr>
              <a:t>imposizione di attività da sub-appalt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</a:rPr>
              <a:t>I GIOVAN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690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 ADESSO UCCIDETE NOI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ff"/>
                </a:solidFill>
                <a:latin typeface="Times New Roman"/>
              </a:rPr>
              <a:t>LA MAF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’ un’associazione criminale, sorta in Sicilia nel XIX sec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il passare degli anni si è trasformata in una organizzazione affaristico-criminale di dimensioni internazionali, tuttora oper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’era</a:t>
            </a:r>
            <a:r>
              <a:rPr b="1" lang="it-IT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it-IT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utturata in ori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ttura gerarch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uramenti di sangue e  patti di segretez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ido codice d'onore fatto di omertà, intimidazioni e privati regolamenti di co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ratica dell'omicidio non era ancora una norm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 dell’unità d’Italia (186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obili e la ricca borghes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rono la m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reprimere le rivol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contadini e dei braccia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it-IT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FIA</a:t>
            </a:r>
            <a:br>
              <a:rPr sz="40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ostituì alle Istituzioni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RUTT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difficoltà degli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i sociali più pove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protetti dalle autorità stat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rendo assistenza ai bisogno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vando lavoro ai disoccup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endo nell'amministrazione della giustizia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fia e politica</a:t>
            </a: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42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l 1943 avevano cominciato a fare rientro in Sicilia i mafiosi italo-americani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fia cominciò a controllare la politica e le attività economich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5690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a Nost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icilia le cosche locali occuparono importanti   posti nelle amministrazioni dei Comuni e delle Reg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ziò la guerra tra le cosche per la supremazia e per il controllo del territo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afia palermitana si organizzò in "cupola“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00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fia “imprenditrice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occupa della prostituzione, degli appalti, dei sequestri e del commercio della dro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it-IT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 il suo ingresso nei mercati finanziari e cerca nuovi canali di investimento per il riciclaggio del denaro spor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132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otta alla maf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 1962 venne istituita la prima Commissione parlamentare antimaf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l 1982 venne introdotto il reato di "associazione di stampo mafioso" e “il delitto di mafia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 fu la possibilità di sequestrare i patrimoni dei mafiosi e di sciogliere i consigli comunali e provinciali sospettati di collusion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que l'Alto commissariato per la lotta alla mafia per esercitare un maggiore controllo sul riciclaggio del dena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5:52:46Z</dcterms:created>
  <dc:creator>Piasentier</dc:creator>
  <dc:description/>
  <dc:language>en-US</dc:language>
  <cp:lastModifiedBy>DOCENTE</cp:lastModifiedBy>
  <dcterms:modified xsi:type="dcterms:W3CDTF">2019-11-29T09:11:39Z</dcterms:modified>
  <cp:revision>14</cp:revision>
  <dc:subject/>
  <dc:title>LA MAFIA</dc:title>
</cp:coreProperties>
</file>