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TTADINANZA EUROPEA                             I DIRITTI UMANI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.T.C.G. "G. BARUFFI" MONDOVI' -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043F-7DE9-4A24-8DC5-EC041F1B33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ITTADINANZA EUROPEA                             I DIRITTI UMANI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.T.C.G. "G. BARUFFI" MONDOVI' - 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E08C-9507-49FE-B30D-984B148A86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F0E-694D-4D72-B420-8228B489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2F7F-CE37-466E-8446-176A8188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611-6083-489B-8112-FA5455DCD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440B-2893-43AE-9CA5-D3EC4367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4A8-92AA-4240-9E14-5D2DEEEF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B12-FBF1-41DA-94CF-E079AFF9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ABD-3AAE-4E33-A0C8-A9D0D268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C86-AEF4-403F-88BF-B0C83AE9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56E-2762-44B1-841F-5D5ED36F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61F-D36A-49B2-A5E3-320885B4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89B3-F1CD-4CCA-944E-9C381101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AD6-1657-4201-A539-3EE56C06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5D16-B1F1-4039-A67B-ACB463BD79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image" Target="../media/image1.png"/><Relationship Id="rId7" Type="http://schemas.openxmlformats.org/officeDocument/2006/relationships/slide" Target="slide6.xml"/><Relationship Id="rId8" Type="http://schemas.openxmlformats.org/officeDocument/2006/relationships/image" Target="../media/image2.png"/><Relationship Id="rId9" Type="http://schemas.openxmlformats.org/officeDocument/2006/relationships/slide" Target="slide7.xml"/><Relationship Id="rId10" Type="http://schemas.openxmlformats.org/officeDocument/2006/relationships/image" Target="../media/image2.png"/><Relationship Id="rId11" Type="http://schemas.openxmlformats.org/officeDocument/2006/relationships/slide" Target="slide8.xm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BankGothic Lt BT"/>
              </a:rPr>
              <a:t>I Diritti dell’Uom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5410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BankGothic Lt BT"/>
              </a:rPr>
              <a:t>I Padri Fondato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padri_fondatori"/>
          <p:cNvPicPr/>
          <p:nvPr/>
        </p:nvPicPr>
        <p:blipFill>
          <a:blip r:embed="rId1"/>
          <a:stretch/>
        </p:blipFill>
        <p:spPr>
          <a:xfrm>
            <a:off x="755640" y="1989000"/>
            <a:ext cx="331164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8b12c3b48a7a4e9e6728bd2a3ab3fffd"/>
          <p:cNvPicPr/>
          <p:nvPr/>
        </p:nvPicPr>
        <p:blipFill>
          <a:blip r:embed="rId2"/>
          <a:stretch/>
        </p:blipFill>
        <p:spPr>
          <a:xfrm>
            <a:off x="5651640" y="4292640"/>
            <a:ext cx="2624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BankGothic Lt BT"/>
              </a:rPr>
              <a:t>I PRINCIPI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3192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Dign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Liber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Uguagli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960" y="365760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cc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Solidarie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Cittadina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…</a:t>
            </a:r>
            <a:r>
              <a:rPr b="1" lang="it-IT" sz="2800" spc="-1" strike="noStrike">
                <a:solidFill>
                  <a:srgbClr val="000000"/>
                </a:solidFill>
                <a:latin typeface="Lucida Sans"/>
              </a:rPr>
              <a:t>Giustiz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1600200" y="213372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108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9" h="21600">
                <a:moveTo>
                  <a:pt x="108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9" h="21600">
                <a:moveTo>
                  <a:pt x="8238" y="8224"/>
                </a:moveTo>
                <a:lnTo>
                  <a:pt x="12103" y="8224"/>
                </a:lnTo>
                <a:lnTo>
                  <a:pt x="12103" y="15221"/>
                </a:lnTo>
                <a:lnTo>
                  <a:pt x="13391" y="15221"/>
                </a:lnTo>
                <a:lnTo>
                  <a:pt x="13391" y="16144"/>
                </a:lnTo>
                <a:lnTo>
                  <a:pt x="8238" y="16144"/>
                </a:lnTo>
                <a:lnTo>
                  <a:pt x="8238" y="15221"/>
                </a:lnTo>
                <a:lnTo>
                  <a:pt x="9526" y="15221"/>
                </a:lnTo>
                <a:lnTo>
                  <a:pt x="9526" y="9129"/>
                </a:lnTo>
                <a:lnTo>
                  <a:pt x="8238" y="912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7">
            <a:hlinkClick r:id="rId3" action="ppaction://hlinksldjump"/>
          </p:cNvPr>
          <p:cNvSpPr/>
          <p:nvPr/>
        </p:nvSpPr>
        <p:spPr>
          <a:xfrm>
            <a:off x="1600200" y="3124080"/>
            <a:ext cx="270000" cy="270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8">
            <a:hlinkClick r:id="rId5" action="ppaction://hlinksldjump"/>
          </p:cNvPr>
          <p:cNvSpPr/>
          <p:nvPr/>
        </p:nvSpPr>
        <p:spPr>
          <a:xfrm>
            <a:off x="1600200" y="419112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108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9" h="21600">
                <a:moveTo>
                  <a:pt x="108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9" h="21600">
                <a:moveTo>
                  <a:pt x="8238" y="8224"/>
                </a:moveTo>
                <a:lnTo>
                  <a:pt x="12103" y="8224"/>
                </a:lnTo>
                <a:lnTo>
                  <a:pt x="12103" y="15221"/>
                </a:lnTo>
                <a:lnTo>
                  <a:pt x="13391" y="15221"/>
                </a:lnTo>
                <a:lnTo>
                  <a:pt x="13391" y="16144"/>
                </a:lnTo>
                <a:lnTo>
                  <a:pt x="8238" y="16144"/>
                </a:lnTo>
                <a:lnTo>
                  <a:pt x="8238" y="15221"/>
                </a:lnTo>
                <a:lnTo>
                  <a:pt x="9526" y="15221"/>
                </a:lnTo>
                <a:lnTo>
                  <a:pt x="9526" y="9129"/>
                </a:lnTo>
                <a:lnTo>
                  <a:pt x="8238" y="912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9">
            <a:hlinkClick r:id="rId7" action="ppaction://hlinksldjump"/>
          </p:cNvPr>
          <p:cNvSpPr/>
          <p:nvPr/>
        </p:nvSpPr>
        <p:spPr>
          <a:xfrm>
            <a:off x="4724280" y="376884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108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9" h="21600">
                <a:moveTo>
                  <a:pt x="108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9" h="21600">
                <a:moveTo>
                  <a:pt x="8238" y="8224"/>
                </a:moveTo>
                <a:lnTo>
                  <a:pt x="12103" y="8224"/>
                </a:lnTo>
                <a:lnTo>
                  <a:pt x="12103" y="15221"/>
                </a:lnTo>
                <a:lnTo>
                  <a:pt x="13391" y="15221"/>
                </a:lnTo>
                <a:lnTo>
                  <a:pt x="13391" y="16144"/>
                </a:lnTo>
                <a:lnTo>
                  <a:pt x="8238" y="16144"/>
                </a:lnTo>
                <a:lnTo>
                  <a:pt x="8238" y="15221"/>
                </a:lnTo>
                <a:lnTo>
                  <a:pt x="9526" y="15221"/>
                </a:lnTo>
                <a:lnTo>
                  <a:pt x="9526" y="9129"/>
                </a:lnTo>
                <a:lnTo>
                  <a:pt x="8238" y="9129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">
            <a:hlinkClick r:id="rId9" action="ppaction://hlinksldjump"/>
          </p:cNvPr>
          <p:cNvSpPr/>
          <p:nvPr/>
        </p:nvSpPr>
        <p:spPr>
          <a:xfrm>
            <a:off x="4724280" y="4800600"/>
            <a:ext cx="270000" cy="27000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70000"/>
              <a:gd name="textAreaBottom" fmla="*/ 252720 h 2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">
            <a:hlinkClick r:id="rId11" action="ppaction://hlinksldjump"/>
          </p:cNvPr>
          <p:cNvSpPr/>
          <p:nvPr/>
        </p:nvSpPr>
        <p:spPr>
          <a:xfrm>
            <a:off x="4724280" y="582624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108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29" h="21600">
                <a:moveTo>
                  <a:pt x="108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29" h="21600">
                <a:moveTo>
                  <a:pt x="8238" y="8224"/>
                </a:moveTo>
                <a:lnTo>
                  <a:pt x="12103" y="8224"/>
                </a:lnTo>
                <a:lnTo>
                  <a:pt x="12103" y="15221"/>
                </a:lnTo>
                <a:lnTo>
                  <a:pt x="13391" y="15221"/>
                </a:lnTo>
                <a:lnTo>
                  <a:pt x="13391" y="16144"/>
                </a:lnTo>
                <a:lnTo>
                  <a:pt x="8238" y="16144"/>
                </a:lnTo>
                <a:lnTo>
                  <a:pt x="8238" y="15221"/>
                </a:lnTo>
                <a:lnTo>
                  <a:pt x="9526" y="15221"/>
                </a:lnTo>
                <a:lnTo>
                  <a:pt x="9526" y="9129"/>
                </a:lnTo>
                <a:lnTo>
                  <a:pt x="8238" y="9129"/>
                </a:lnTo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33cc"/>
                </a:solidFill>
                <a:latin typeface="Lucida Sans"/>
              </a:rPr>
              <a:t>…</a:t>
            </a:r>
            <a:r>
              <a:rPr b="0" lang="it-IT" sz="4800" spc="-1" strike="noStrike">
                <a:solidFill>
                  <a:srgbClr val="000000"/>
                </a:solidFill>
                <a:latin typeface="BankGothic Lt BT"/>
              </a:rPr>
              <a:t>DIGNITA’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700280"/>
            <a:ext cx="4464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La dignità è umana per natura in quanto l’uomo, superiore agli altri esseri, ha il dono della ragione. Egli ha un valore incommensurabile perché è un soggetto infinitamente amato e capace di am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">
            <a:hlinkClick r:id="rId1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256_dignita_e_speranza"/>
          <p:cNvPicPr/>
          <p:nvPr/>
        </p:nvPicPr>
        <p:blipFill>
          <a:blip r:embed="rId3"/>
          <a:stretch/>
        </p:blipFill>
        <p:spPr>
          <a:xfrm>
            <a:off x="6516720" y="1557360"/>
            <a:ext cx="1797120" cy="245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A09UZCH"/>
          <p:cNvPicPr/>
          <p:nvPr/>
        </p:nvPicPr>
        <p:blipFill>
          <a:blip r:embed="rId4"/>
          <a:stretch/>
        </p:blipFill>
        <p:spPr>
          <a:xfrm>
            <a:off x="1187280" y="4076640"/>
            <a:ext cx="1619280" cy="2160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4572000" y="4508640"/>
            <a:ext cx="360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gni individuo ha diritto alla v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essuno può essere condannato alla pena di  morte, né giustiziato. (art.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0" lang="it-IT" sz="4800" spc="-1" strike="noStrike">
                <a:solidFill>
                  <a:srgbClr val="000000"/>
                </a:solidFill>
                <a:latin typeface="BankGothic Lt BT"/>
              </a:rPr>
              <a:t>LIBERTA’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4824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a libertà non è il potere di fare cioè che si vuole anche a costo di calpestare l’altro, ma, al contrario è la facoltà che ci consente di riconoscere e rispettare l’altro fino al punto di amarlo. Uccidere o cancellare l’altro non è libertà, ma il suo esatto contr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7">
            <a:hlinkClick r:id="rId1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liberta"/>
          <p:cNvPicPr/>
          <p:nvPr/>
        </p:nvPicPr>
        <p:blipFill>
          <a:blip r:embed="rId3"/>
          <a:stretch/>
        </p:blipFill>
        <p:spPr>
          <a:xfrm>
            <a:off x="1042920" y="4221000"/>
            <a:ext cx="2809800" cy="198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cittadinanza3"/>
          <p:cNvPicPr/>
          <p:nvPr/>
        </p:nvPicPr>
        <p:blipFill>
          <a:blip r:embed="rId4"/>
          <a:stretch/>
        </p:blipFill>
        <p:spPr>
          <a:xfrm>
            <a:off x="5940360" y="1844640"/>
            <a:ext cx="1690920" cy="2519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5003640" y="4797360"/>
            <a:ext cx="3456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a libertà è il diritto dell’anima di respira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(dal film “Will Hunting – Genio Ribell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UGUAGLIANZA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1640" y="1916280"/>
            <a:ext cx="3809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Non importa quale sia il colore della tua pelle, la tua religione, la tua origine sociale, la tua lingua, la tua età, le tue caratteristiche fisiche o la tua razza. Sei in Europa! (art. 20-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aguaglianza"/>
          <p:cNvPicPr/>
          <p:nvPr/>
        </p:nvPicPr>
        <p:blipFill>
          <a:blip r:embed="rId1"/>
          <a:stretch/>
        </p:blipFill>
        <p:spPr>
          <a:xfrm>
            <a:off x="990720" y="1600200"/>
            <a:ext cx="2990880" cy="23922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8">
            <a:hlinkClick r:id="rId2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9" descr="uguaglianza"/>
          <p:cNvPicPr/>
          <p:nvPr/>
        </p:nvPicPr>
        <p:blipFill>
          <a:blip r:embed="rId4"/>
          <a:stretch/>
        </p:blipFill>
        <p:spPr>
          <a:xfrm>
            <a:off x="5364000" y="4508640"/>
            <a:ext cx="2160720" cy="1655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1042920" y="458136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’Unione rispetta la diversità culturale, religiosa e linguistica e promuove la parità tra uomini e donne e la protezione per il benessere dei bambini, anziani e disabili. (art. 22-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SOLIDARIETA’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81080"/>
            <a:ext cx="46814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a cultura della vita esige solidarietà verso i più piccoli e verso i più deboli. In particolare quando le leggi e gli stati, le maggioranze e i mezzi di comunicazione sociale negano il diritto di vivere a essi, essa ha il coraggio di ergersi a difesa dei piccoli e dei deboli anche di fronte ai poten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>
            <a:hlinkClick r:id="rId1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solidarieta"/>
          <p:cNvPicPr/>
          <p:nvPr/>
        </p:nvPicPr>
        <p:blipFill>
          <a:blip r:embed="rId3"/>
          <a:stretch/>
        </p:blipFill>
        <p:spPr>
          <a:xfrm>
            <a:off x="5232240" y="1981080"/>
            <a:ext cx="2641680" cy="1981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uguaglia"/>
          <p:cNvPicPr/>
          <p:nvPr/>
        </p:nvPicPr>
        <p:blipFill>
          <a:blip r:embed="rId4"/>
          <a:stretch/>
        </p:blipFill>
        <p:spPr>
          <a:xfrm>
            <a:off x="1619280" y="4508640"/>
            <a:ext cx="2387520" cy="1914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5219640" y="458136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L’unione e la solidarietà degli uomini possono prosciugare i mari e abbattere le montagne. (proverbio cine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CITTADINANZA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55640" y="2205000"/>
            <a:ext cx="395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Aver la cittadinanza europea significa anche partecipare alla vita politica dell’Unione: ogni cittadino che abbia raggiunto l’età stabilita per farlo può, infatti, votare per eleggere i membri del Parlamento, addirittura, candidarsi per essere eletto. (art.3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Per quanto riguarda la geografia, all’interno del territorio europeo si può circolare liberamente attraversando le frontiere senza bisogno di pagamenti o passaport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">
            <a:hlinkClick r:id="rId1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7" descr="cittadinanza2"/>
          <p:cNvPicPr/>
          <p:nvPr/>
        </p:nvPicPr>
        <p:blipFill>
          <a:blip r:embed="rId3"/>
          <a:stretch/>
        </p:blipFill>
        <p:spPr>
          <a:xfrm>
            <a:off x="6877080" y="1844640"/>
            <a:ext cx="1930320" cy="1981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ittadinanza"/>
          <p:cNvPicPr/>
          <p:nvPr/>
        </p:nvPicPr>
        <p:blipFill>
          <a:blip r:embed="rId4"/>
          <a:stretch/>
        </p:blipFill>
        <p:spPr>
          <a:xfrm>
            <a:off x="179280" y="4292640"/>
            <a:ext cx="20527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…</a:t>
            </a:r>
            <a:r>
              <a:rPr b="1" lang="it-IT" sz="4800" spc="-1" strike="noStrike">
                <a:solidFill>
                  <a:srgbClr val="000000"/>
                </a:solidFill>
                <a:latin typeface="BankGothic Lt BT"/>
              </a:rPr>
              <a:t>GIUSTIZ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625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Lucida Sans"/>
              </a:rPr>
              <a:t>La giustizia è ordine dei rapporti umani e la virtù morale per la quale si osserva il dovere e il diritto. È la costante volontà di riconoscere a ciascuno ciò che gli è dovuto</a:t>
            </a: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381480" cy="31035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>
            <a:hlinkClick r:id="rId2" action="ppaction://hlinksldjump"/>
          </p:cNvPr>
          <p:cNvSpPr/>
          <p:nvPr/>
        </p:nvSpPr>
        <p:spPr>
          <a:xfrm>
            <a:off x="8690040" y="6477120"/>
            <a:ext cx="269640" cy="269640"/>
          </a:xfrm>
          <a:custGeom>
            <a:avLst/>
            <a:gdLst>
              <a:gd name="textAreaLeft" fmla="*/ 17280 w 269640"/>
              <a:gd name="textAreaRight" fmla="*/ 252360 w 26964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8277120" y="6477120"/>
            <a:ext cx="270000" cy="269640"/>
          </a:xfrm>
          <a:custGeom>
            <a:avLst/>
            <a:gdLst>
              <a:gd name="textAreaLeft" fmla="*/ 17280 w 270000"/>
              <a:gd name="textAreaRight" fmla="*/ 252720 w 270000"/>
              <a:gd name="textAreaTop" fmla="*/ 17280 h 269640"/>
              <a:gd name="textAreaBottom" fmla="*/ 252360 h 269640"/>
            </a:gdLst>
            <a:ahLst/>
            <a:rect l="textAreaLeft" t="textAreaTop" r="textAreaRight" b="textAreaBottom"/>
            <a:pathLst>
              <a:path w="21629" h="21600">
                <a:moveTo>
                  <a:pt x="0" y="0"/>
                </a:moveTo>
                <a:lnTo>
                  <a:pt x="21629" y="0"/>
                </a:lnTo>
                <a:lnTo>
                  <a:pt x="21629" y="21600"/>
                </a:lnTo>
                <a:lnTo>
                  <a:pt x="0" y="21600"/>
                </a:lnTo>
                <a:close/>
              </a:path>
              <a:path fill="lightenLess" w="21629" h="21600">
                <a:moveTo>
                  <a:pt x="0" y="0"/>
                </a:moveTo>
                <a:lnTo>
                  <a:pt x="21629" y="0"/>
                </a:lnTo>
                <a:lnTo>
                  <a:pt x="20229" y="1400"/>
                </a:lnTo>
                <a:lnTo>
                  <a:pt x="1400" y="1400"/>
                </a:lnTo>
                <a:close/>
              </a:path>
              <a:path fill="darken" w="21629" h="21600">
                <a:moveTo>
                  <a:pt x="21629" y="0"/>
                </a:moveTo>
                <a:lnTo>
                  <a:pt x="21629" y="21600"/>
                </a:lnTo>
                <a:lnTo>
                  <a:pt x="20229" y="20200"/>
                </a:lnTo>
                <a:lnTo>
                  <a:pt x="20229" y="1400"/>
                </a:lnTo>
                <a:close/>
              </a:path>
              <a:path fill="darkenLess" w="21629" h="21600">
                <a:moveTo>
                  <a:pt x="216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9" y="20200"/>
                </a:lnTo>
                <a:close/>
              </a:path>
              <a:path fill="lighten" w="216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9" h="21600">
                <a:moveTo>
                  <a:pt x="7316" y="10800"/>
                </a:moveTo>
                <a:lnTo>
                  <a:pt x="17821" y="3794"/>
                </a:lnTo>
                <a:lnTo>
                  <a:pt x="17821" y="17806"/>
                </a:lnTo>
                <a:close/>
              </a:path>
              <a:path fill="darken" w="21629" h="21600">
                <a:moveTo>
                  <a:pt x="3808" y="3794"/>
                </a:moveTo>
                <a:lnTo>
                  <a:pt x="5470" y="3794"/>
                </a:lnTo>
                <a:lnTo>
                  <a:pt x="5470" y="17806"/>
                </a:lnTo>
                <a:lnTo>
                  <a:pt x="3808" y="17806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50920" y="3933720"/>
            <a:ext cx="309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Tutte le leggi e tutte le strutture sociali devono essere a servizio dell’uomo e di ogni uomo: a nessuno deve mancare la possibilità di difendersi (art.47-48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ankGothic Lt BT"/>
              </a:rPr>
              <a:t>Discorso di Benedetto XVI all’assemblea generale dell’O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I principi fondativi dell’Organizzazione - il desiderio della pace, la ricerca della giustizia, il rispetto della dignità della persona, la cooperazione umanitaria e l’assistenza - esprimono le giuste aspirazioni dello spirito umano e costituiscono gli ideali che dovrebbero sottostare alle relazioni internaziona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Lucida Sans"/>
              </a:rPr>
              <a:t>Ogni Stato ha il dovere primario di proteggere la propria popolazione da violazioni gravi e continue dei diritti umani, come pure dalle conseguenze delle crisi umanitarie, provocate sia dalla natura che dall’uom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Lucida Sans"/>
              </a:rPr>
              <a:t>Sempre più presentati come linguaggio comune e sostrato etico delle relazioni internazionali. Allo stesso tempo, l’universalità, l’indivisibilità e l’interdipendenza dei diritti umani servono tutte quali garanzie per la salvaguardia della dignità uman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08:27:24Z</dcterms:created>
  <dc:creator>utente</dc:creator>
  <dc:description/>
  <dc:language>en-US</dc:language>
  <cp:lastModifiedBy> </cp:lastModifiedBy>
  <dcterms:modified xsi:type="dcterms:W3CDTF">2011-11-08T16:15:20Z</dcterms:modified>
  <cp:revision>26</cp:revision>
  <dc:subject/>
  <dc:title>I diritti dell’uomo</dc:title>
</cp:coreProperties>
</file>