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A7A7-C4D4-4DB0-ABA5-2B105108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594C-10EF-47A6-A43F-34F0FB27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A5A-3D0B-48FA-A14A-DF577784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3C8-8151-4F84-BEA2-6AD89401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B5A3-B3A0-4F49-A32F-0D37B7A9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B10A-5092-4D4C-8F17-1DDDC2B6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7FEA-649B-4528-9A7C-79B8918D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B0DE-344E-4C3C-B561-192874FC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821-BCD5-4A31-8838-E5F33BE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56D-3B2E-4792-A242-3EF81EC4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65E-D2A7-49DB-85B1-C094BE1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1265-0C61-411B-8E89-F2FC2809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124-4AD8-40E4-90C5-BF33FA9FE9E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DIRITTI U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La Dichiarazione Universale </a:t>
            </a:r>
            <a:br>
              <a:rPr sz="4000"/>
            </a:b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dei diritti dell’u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ovat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ll’Assemblea generale dell’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10 dicemb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onosce i diritti della 1° e della 2° gene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Dichiarazione universale dei diritti dell'uomo non è giuridicamente vincolante per gli Stati membri dell'organizza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via la Dichiarazione dei diritti dell'uomo è un documento di importanza storica fondamentale: è stato infatti il primo documento a sancire universalmente (cioè in ogni epoca storica e in ogni parte del mondo) i diritti che spettano all'essere um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La Convenzione Europea per la salvaguardia dei diritti dell’uo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ovata da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nsiglio d’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a Convenzione sono indicati i diritti e le libertà fondamentali che ogni Stato che ha aderito al Consiglio d’Europa si impegna a rispett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cittadini in caso di violazione possono rivolgersi alla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orte Europe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iritt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ll’uom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Strasbu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La Carta dei diritti fondamentali dell’Unione Europ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rovat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ll'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Unione euro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7 dicembr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000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 Ni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onde alla necessità emersa durante il di definire un gruppo di diritti e di libertà di eccezionale rilevanza che fossero garantiti a tutti i cittadini dell’Un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Carta riconosce sia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libertà fondamentali presenti nelle costituzioni di tutti gli stati membri, sia i diritti economici e soci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conosce inoltre i diritti “moderni”, quelli che derivano da alcuni sviluppi della tecnologia, come la tutela dei dati personali o il divieto della clonazione uma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Statuto istitutivo del Tribunale Penale Internaz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in dalla fine della tragedia della Seconda Guerra Mondiale e per circa mezzo secolo le Nazioni Unite hanno riconosciuto la necessità di un Tribunale Internazionale Permanente per giudicare e punire i responsabili dei più gravi crimini di rilevanza internaz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98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Nazioni Uni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hanno approvato lo Statuto che ha istituito il Tribunale Penale Internazionale Permanente entrato in vigore ne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Tribunale avrà giudica sui seguenti crim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enocid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mini contro l’umani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rimini di gu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a Costituzione Ital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la legge fondamentale del nostro S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stata emanat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all’Assemblea Costit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’ entrata in vigore il 1 gennai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rt 2 c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La Repubblica </a:t>
            </a:r>
            <a:r>
              <a:rPr b="1" i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riconosce e garantisce i diritti inviolabili dell'uomo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, sia come singolo sia nelle formazioni sociali ove si svolge la sua personalità...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Diritti inviolabili dell’u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i tratta di diritti che lo Stato RICONOSCE e GARANTIS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Riconosce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gnifica considerare questi diritti come pre-esistenti allo Stato, che esistono prima dello Stato e che esistono indipendentemente da ess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aranti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gnifica che lo stato si impegna a proteggerli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i diritti son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VIOLABI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ioè diritti di cui nessuno può essere priv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categoria compre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diritti espressamente elencati nella Costituzione ital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a i nuovi diritti che emergono dal cambiamento della società (ambiente, consumatori, privacy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rt 3 c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Tutti i cittadini hanno pari dignità sociale e sono eguali davanti alla legge, senza distinzione di sesso, di razza, di lingua, di religione, di opinioni politiche, di condizioni personali e sociali.</a:t>
            </a: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…”</a:t>
            </a:r>
            <a:br>
              <a:rPr sz="3200"/>
            </a:br>
            <a:br>
              <a:rPr sz="3200"/>
            </a:b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principio di uguagl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ima proposizione (comma) afferma l'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uguaglianza form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come uguaglianza di tutti i cittadini di fronte alla leg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vietate discriminazioni che si basi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 sess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a raz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differenze linguist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a relig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opinioni 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condizioni pers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ulle condizioni sociali.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I diritti u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i diritti che spettano ad ogni essere umano in quanto t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CARATTERISTIC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diritti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ASSOLU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ché si fanno valere nei confronti di tut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INDISPONIBIL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ché non vi si può rinunci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NON PATRIMONIA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perché non hanno un valore econo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Le generazioni dei diritti um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diritti umani sono il frutto di un lungo </a:t>
            </a:r>
            <a:r>
              <a:rPr b="0" lang="it-IT" sz="3200" spc="-1" strike="noStrike" u="sng">
                <a:solidFill>
                  <a:srgbClr val="000000"/>
                </a:solidFill>
                <a:uFillTx/>
                <a:latin typeface="Arial"/>
              </a:rPr>
              <a:t>percorso stor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he ne ha portato all’afferm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studiosi hanno individuato delle vere e proprie generazioni di diritti, divisi a seconda del momento storico in cui si sono svilup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1°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ima generazione dei diritti uma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iene fatta risalire al 1789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quindi alla fine della Rivoluzione francese con l’approvazione della Dichiarazione dei diritti dell’uomo e del cittad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diritti che nascono dalla rivendicazione di una serie di libertà fondamenta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tratta in particolare de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ritto alla vita e all’integrità fisica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poi di tutti quei diritti legati all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libertà di pensiero, di religione, di espressione, di associazione, il diritto alla partecipazione politica,il diritto di votare e di essere votati.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2° 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a seconda generazione ha origine con la Dichiarazione universale del 1948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rende diritti di natura economica, sociale e culturale (come per esempio i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ritto all’istruzione, al lavoro, alla casa, alla salu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cc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esercizio effettivo di questi diritti dovrebbe contribuire al miglioramento delle condizioni di vita del cittadino.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3° 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i diritti son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iritti di tipo collet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significa che i destinatari non sono i singoli individui, ma i pop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diritto alla pace, allo sviluppo, all’equilibrio ecologico, al controllo delle risorse nazionali, alla difesa ambient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nno parte dei diritti di terza generazione anche quelli che tutelan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categorie di individu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ritenute particolarmente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debo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d esposte a pericoli di violazioni dei loro diritti: si tratta in particolare dei diritti dell’infanzia e dei diritti della don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 u="sng">
                <a:solidFill>
                  <a:srgbClr val="000000"/>
                </a:solidFill>
                <a:uFillTx/>
                <a:latin typeface="Arial"/>
              </a:rPr>
              <a:t>La 4° gener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iste infine una quarta generazione di diritti, che tuttavia non è ancora stata elaborata con precisione essendo un fenomeno molto recente: i diritti di quarta generazione sono quelli relativi al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campo delle manipolazioni genetiche, della bioetica e delle nuove tecnologie di comunic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ivendicazione di questi nuovi diritti deriva dalla minaccia causata dalle nuove tecnolog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pensi ai danni che possono causare alla salute i cibi geneticamente modificati, oppure ai pericoli in cui possono incorrere specialmente i bambini utilizzando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Le violazioni nel mo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na di m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r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cessi ingiu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oci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secuzioni per motivi politici/religi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criminazioni sulle d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fruttamento dei lav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minor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olenze sui min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me/povertà/analfabe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Gli atti giuridici a tutela dei diritti u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20:54:06Z</dcterms:created>
  <dc:creator>DONA</dc:creator>
  <dc:description/>
  <dc:language>en-US</dc:language>
  <cp:lastModifiedBy> </cp:lastModifiedBy>
  <dcterms:modified xsi:type="dcterms:W3CDTF">2011-10-02T15:23:10Z</dcterms:modified>
  <cp:revision>4</cp:revision>
  <dc:subject/>
  <dc:title>DIRITTI UMANI</dc:title>
</cp:coreProperties>
</file>