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4527-F290-4CB5-B649-50D5AEDEF49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7440-E441-4394-96EA-FB479875369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7D6D-04DD-4C57-8EFE-6AFE1247A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94A-EA4A-4882-A5C1-A7387995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BC6-F66E-4AE0-BC25-71268CB1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A5C6-D922-4E14-B057-3805D03F7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42D-7461-40EA-9545-B28D860E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437-9BBE-48A6-97F7-BDB9462E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CBA6-1069-4C42-AD4A-90A9777C4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1199-B655-40A0-B5B9-E354F471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B8ED-C672-4F4E-8D83-1725E927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137-BDE3-48D6-BBA2-466B4251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F202-2686-4DE2-90FC-5A4C2A6E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EC4A-3844-499E-85FF-DC0ADE67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45C0-0C5D-4B33-9DBD-5D3B0C78EDB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USURA : cos’è e da dove nas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siste nello sfruttare il bisogno di denaro di un’altra persona per procurarsi un forte guadagno con l’imposizione di interessi elev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376200" y="4600440"/>
            <a:ext cx="801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rot="330600">
            <a:off x="627120" y="4890240"/>
            <a:ext cx="74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’usura nasce dall’indebitamen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Arial"/>
              </a:rPr>
              <a:t>IL RUOLO DELLE ASSOCIAZIONI ANTIUS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Associazioni rappresentano una fitta r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 solidarietà e di aiuto per non finire nelle ma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gli usurai o per uscir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se sono  il presidio territoriale della società civ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he monitorizza, registra e collabo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l contrasto del fenome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Associazioni antiusura svolgo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ei confronti dei soggetti in difficoltà un’opera d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50920" y="494172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 Assiste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500720" y="49417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 Solidarie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50920" y="5589720"/>
            <a:ext cx="777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- Prestazione di Garanz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i confronti delle banch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over dir="d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8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8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8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8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8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8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8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5" dur="50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50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5" dur="50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SSISTE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9280" y="765000"/>
            <a:ext cx="8785440" cy="6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UOLO DEGLI SPORTELLI DI ASCO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79280" y="1413000"/>
            <a:ext cx="878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strumenti delle Associazioni e delle Fondazio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pito degli Sportelli d’Ascolto non è quello di combattere l’usura o gli usurai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questo compito ci sono già le Forze dell’Ordine e la Magistr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Sportelli hanno il compito di aiutare le persone che si trovano in una condizione di sostanziale e grave indebitamento (patologico/rischio) al fine di prevenire l’usura e quindi di intervenire prima che essa si concretizz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zione principale degli Sportelli è quin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79280" y="5084640"/>
            <a:ext cx="8785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7200" spc="-1" strike="noStrike">
                <a:solidFill>
                  <a:srgbClr val="000000"/>
                </a:solidFill>
                <a:latin typeface="Arial"/>
              </a:rPr>
              <a:t>LA PREVENZIONE</a:t>
            </a:r>
            <a:r>
              <a:rPr b="0" lang="it-IT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1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USURA/PIZ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no due fenomeni criminali totalmente diversi anche se talvolta associ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PRESENZA DI QUESTI D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ENOMENI E’ SPESSO ASSOCI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LLA PRESENZA DEL COSIDDETT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RICICLAGGI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ICICLAGG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empre più presente nei casi di usura e racket per </a:t>
            </a:r>
            <a:r>
              <a:rPr b="0" lang="it-IT" sz="4400" spc="-1" strike="noStrike">
                <a:solidFill>
                  <a:srgbClr val="ff0000"/>
                </a:solidFill>
                <a:latin typeface="Arial"/>
              </a:rPr>
              <a:t>“ripulir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il denaro sporco e per impadronirsi di imprese artigiane, commerciali ed industria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(negli ultimi tempi anche imprese finanziarie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Arial"/>
              </a:rPr>
              <a:t>DIFFERENZA TRA RACKET E US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Racket (Pizz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il racket è attività tipicamente mafios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implica il controllo del territor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ruolo “passivo” della vittim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non è vincolante il parere del P.M. per accedere ai fondi antirack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strumento: contributo a fondo perdu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4724280" y="1219320"/>
            <a:ext cx="358164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imes New Roman"/>
              </a:rPr>
              <a:t>Us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imes New Roman"/>
              </a:rPr>
              <a:t>l’usura non è necessariamente attività mafios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imes New Roman"/>
              </a:rPr>
              <a:t>non  implica necessariamente il controllo del territor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imes New Roman"/>
              </a:rPr>
              <a:t>ruolo “attivo” della vittim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imes New Roman"/>
              </a:rPr>
              <a:t>è vincolante il parere del P.M. per accedere ai fondi di solidarietà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imes New Roman"/>
              </a:rPr>
              <a:t>strumento: finanziamento a tasso 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66"/>
                </a:solidFill>
                <a:latin typeface="Arial"/>
              </a:rPr>
              <a:t>EVOLUZIONE DEL FENOMENO US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Il “</a:t>
            </a:r>
            <a:r>
              <a:rPr b="0" lang="it-IT" sz="2000" spc="-1" strike="noStrike" u="sng">
                <a:solidFill>
                  <a:srgbClr val="000066"/>
                </a:solidFill>
                <a:uFillTx/>
                <a:latin typeface="Arial"/>
              </a:rPr>
              <a:t>cravattaro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”: termine tipicamente romanesco, individua l’usuraio che svolge la sua “attività” in ambito locale (spesso il quartier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66"/>
                </a:solidFill>
                <a:uFillTx/>
                <a:latin typeface="Arial"/>
              </a:rPr>
              <a:t>Organizzazioni usurarie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: vere e proprie organizzazioni a delinquere, che spesso agiscono attraverso individui “insospettabili” (commercianti, liberi professionisti, società finanziarie, ecc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66"/>
                </a:solidFill>
                <a:uFillTx/>
                <a:latin typeface="Arial"/>
              </a:rPr>
              <a:t>Usura mafiosa: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la riscossione dell’interesse usurario può portare la mafia a detenere il controllo dell’impresa, favorisce il riciclaggio di denaro sporco e consente alla mafia di estendere il proprio raggio d’azione sul mondo economico. Conseguenze: limitazione delle libertà d’impresa, limitazione delle relazioni di concorrenza, distorsione del merc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430b"/>
            </a:gs>
            <a:gs pos="100000">
              <a:srgbClr val="711f0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L’usura affonda le sue radici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nel sovra-indebitament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73200" y="407664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600" spc="-1" strike="noStrike">
                <a:solidFill>
                  <a:srgbClr val="000000"/>
                </a:solidFill>
                <a:latin typeface="Arial"/>
              </a:rPr>
              <a:t>NON  BASTA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ima di arrivare all’usura, però, occorre  passare per i tre stadi precedenti dell’indebitame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73200" y="314172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03d9"/>
            </a:gs>
            <a:gs pos="100000">
              <a:srgbClr val="75016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sfociare nell’usura occorre un elemento aggiuntivo e cioè l’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RRO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o 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CORCIATOI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cui il soggetto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72723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gravemente indebi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15640" y="2276280"/>
            <a:ext cx="692316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incapace di gestire la sua cr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812000" y="549360"/>
            <a:ext cx="792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258920" y="3068640"/>
            <a:ext cx="7272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dividua   la soluzione  ai suoi  problemi e quindi la sua salvezza nell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971640" y="4292640"/>
            <a:ext cx="727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…“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ORCIATOIA”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1116000" y="4797360"/>
            <a:ext cx="7272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ll’usuraio che offre una soluzione immediata, salvo rendersi conto, il giorno dopo, di aver aggravato la sua situazi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blinds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6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 repeatCount="5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e12"/>
            </a:gs>
            <a:gs pos="100000">
              <a:srgbClr val="f543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932360" y="3789360"/>
            <a:ext cx="29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755640" y="33336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erlin Sans FB"/>
              </a:rPr>
              <a:t>L’usuraio, in pratica, ha fornito al suo ingenuo e malaccorto interlocutore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aracadu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395280" y="328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OVVER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611280" y="220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BUCATO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!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395280" y="4869000"/>
            <a:ext cx="410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UN PARACADUTE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4572000" y="5300640"/>
            <a:ext cx="410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CHE NON SALVA!!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heel spokes="8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SOVRA-INDEBIT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SITUAZIONE DI PERDURANTE SQUILIBRIO ECONOMICO FRA LE OBBLIGAZIONI ASSUNTE ED I MEZZI DISPONIBILI PER FARVI FRO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N PRATICA LA DEFIN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NCAPACITA’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DEBITORE DI ADEMPIERE LE PROPRIE   OBBLIGAZIONI CON REGOLARITA’.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u="sng">
                <a:solidFill>
                  <a:srgbClr val="000000"/>
                </a:solidFill>
                <a:uFillTx/>
                <a:latin typeface="Arial"/>
              </a:rPr>
              <a:t>CAUSE  DI  INDEBITAMENTO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VESTIMENTO   PER   AVVIO   ATTIVITA’   ECONOMICA (COMMERCIO,  INDUSTRIA,  ARTIGIANA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PESE   MED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PESE  FAMILIARI  NON  STRETTAMENTE  NECESSAR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EBITI   DI   GI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DUZIONE  DI  REDDITO  PER  CESSAZIONE  ATTIV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PARAZIONE   TRA   I   CONIU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DUZIONE   DEL  REDDITO  PER CASSA  INTEGRAZIONE  O MOBILITA’   DEL   CAPOFAMIG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UMENTO  DEL  COSTO  DELLA  VITA  CON  RIDUZIONE  O ANNULLAMENTO  DEL  RISPARM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CORSO ALLA DR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CHIESTE   DI  RIENTRO   IMMEDIATO  DI  PRESTITI   E   FIDI  DA   PARTE   DI   BANCHE   E   FINANZIARI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6300720" y="256536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wipe dir="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5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1,67,-11)"/>
                                      </p:to>
                                    </p:set>
                                    <p:set>
                                      <p:cBhvr>
                                        <p:cTn id="175" dur="5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1,67,-11)"/>
                                      </p:to>
                                    </p:set>
                                    <p:set>
                                      <p:cBhvr>
                                        <p:cTn id="176" dur="5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DAL 7 MARZO 1996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95280" y="836640"/>
            <a:ext cx="82296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Legge 108:  </a:t>
            </a:r>
            <a:br>
              <a:rPr sz="4400"/>
            </a:b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Disposizioni in materia d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11280" y="2133720"/>
            <a:ext cx="82296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00"/>
                </a:solidFill>
                <a:latin typeface="Arial"/>
              </a:rPr>
              <a:t>usura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79280" y="2781360"/>
            <a:ext cx="87346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Chiunque si fa dare o promettere, sotto qualsiasi forma, per se o  per altri, in corrispettivo di una prestazione di danaro o di altra utilità, interessi o altri vantaggi usurari, è punito con la reclusione da uno a sei anni e con la multa da sei a trenta milioni di lire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79280" y="5300640"/>
            <a:ext cx="8785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Questa legge sostituisce e costituisce integralmente l’art. 644 del codice penale </a:t>
            </a:r>
            <a:br>
              <a:rPr sz="2800"/>
            </a:b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che disciplina appunto il reato di us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strips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PUNTI SALIENTI DELLA NUOVA DISCIPLINA LEGISLATIVA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legge stabilisce il limite oltre il quale gli interessi son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mp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usurari a prescindere dallo stato di bisogno di chi la subis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79280" y="3068640"/>
            <a:ext cx="8661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a unicamente il tasso d’interesse applica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24000" y="4149720"/>
            <a:ext cx="82296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Arial"/>
              </a:rPr>
              <a:t>se supera il tasso soglia si concretizza il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39640" y="515772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000000"/>
                </a:solidFill>
                <a:latin typeface="Arial"/>
              </a:rPr>
              <a:t>r e a t o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edg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50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81" dur="50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82" dur="50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0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4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2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6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8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0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2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10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36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ONDI DI PREVENZIONE E DI SOLIDARIET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vittime del reato di usura, possono accedere ai benefici previsti dalla stessa leg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legge, però, limita l’accesso a tali fondi solo alle vittime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sura che riguardi l’attività econom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 professionale del soggetto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pratica un soggetto sotto usura a causa del gioco d’azzardo può richiedere sì la condanna dell’usuraio ma non può accedere ai benefici previsti dalla leg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79280" y="4581360"/>
            <a:ext cx="8785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Arial"/>
              </a:rPr>
              <a:t>In ogni caso è obbligatoria la denuncia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Bar dir="horz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7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92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192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8" dur="192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0" dur="1925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5" dur="indefinite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1:33:00Z</dcterms:created>
  <dc:creator>sasa</dc:creator>
  <dc:description/>
  <dc:language>en-US</dc:language>
  <cp:lastModifiedBy> </cp:lastModifiedBy>
  <dcterms:modified xsi:type="dcterms:W3CDTF">2011-11-08T16:59:23Z</dcterms:modified>
  <cp:revision>242</cp:revision>
  <dc:subject/>
  <dc:title>PER UN USO RESPONSABILE  DEL DENARO</dc:title>
</cp:coreProperties>
</file>