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3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5.gif" ContentType="image/gif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E66D-EAFE-47B8-9558-1D53BAF85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D811-9AAC-4F68-A928-ADB09C049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91F6-EFB2-4B10-A3D6-D5B65BB28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B4F8-C870-4FE0-9680-B2C28E772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229E-D6F6-4249-B1A9-950AA1307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A75A-8A3D-4711-AE9B-D55EE3201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2AD7-13E9-4E0F-9A08-CD14B6AF4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077F-0A82-4961-A59F-6DFCEBFB7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A013-7AA8-4CCC-AC92-36FB4F0A7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9F55-F252-41DF-857E-28BDB0DA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9CCF-B8DA-40EA-ADE3-CC998E68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F90F-2945-4218-B719-A2B4C422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B1E6A-696A-40DD-A6AA-D9E2BEB16E1C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" Target="slidete...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f4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66ff"/>
                </a:solidFill>
                <a:latin typeface="Arial"/>
              </a:rPr>
              <a:t>LE REGOLE DEL BUON CITTADI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integrazione"/>
          <p:cNvPicPr/>
          <p:nvPr/>
        </p:nvPicPr>
        <p:blipFill>
          <a:blip r:embed="rId1"/>
          <a:stretch/>
        </p:blipFill>
        <p:spPr>
          <a:xfrm>
            <a:off x="1042920" y="1916280"/>
            <a:ext cx="7058160" cy="4249440"/>
          </a:xfrm>
          <a:prstGeom prst="rect">
            <a:avLst/>
          </a:prstGeom>
          <a:ln w="0">
            <a:noFill/>
          </a:ln>
        </p:spPr>
      </p:pic>
      <p:pic>
        <p:nvPicPr>
          <p:cNvPr id="43" name="Aerosmith - Armagedon - I Don't Wanna miss a thing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1500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bbe0e3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9.Favorire l’integrazione nella società delle persone diverse da no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crescere%20nella%20scuola%20di%20tutti"/>
          <p:cNvPicPr/>
          <p:nvPr/>
        </p:nvPicPr>
        <p:blipFill>
          <a:blip r:embed="rId1"/>
          <a:stretch/>
        </p:blipFill>
        <p:spPr>
          <a:xfrm rot="21097200">
            <a:off x="1835280" y="1483920"/>
            <a:ext cx="6265800" cy="4708440"/>
          </a:xfrm>
          <a:prstGeom prst="rect">
            <a:avLst/>
          </a:prstGeom>
          <a:ln w="0">
            <a:noFill/>
          </a:ln>
        </p:spPr>
      </p:pic>
    </p:spTree>
  </p:cSld>
  <p:transition advTm="15000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45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10.Aiutare generosamente le persone che sono in difficolt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’adozione a distanza è un modo per aiutare il prossimo. La nostra classe insieme alla classe 2E ha adottato una bambina indiana; due volte all’anno le mandiamo circa 200€ per andare a scuola e pagare i libri e il materiale scolast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adozione_a_distanza_tc_94658945c"/>
          <p:cNvPicPr/>
          <p:nvPr/>
        </p:nvPicPr>
        <p:blipFill>
          <a:blip r:embed="rId1"/>
          <a:stretch/>
        </p:blipFill>
        <p:spPr>
          <a:xfrm>
            <a:off x="4716360" y="1440000"/>
            <a:ext cx="2519640" cy="2519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adozioni"/>
          <p:cNvPicPr/>
          <p:nvPr/>
        </p:nvPicPr>
        <p:blipFill>
          <a:blip r:embed="rId2">
            <a:lum bright="6000"/>
          </a:blip>
          <a:stretch/>
        </p:blipFill>
        <p:spPr>
          <a:xfrm rot="1270200">
            <a:off x="6443280" y="2349360"/>
            <a:ext cx="2556000" cy="1917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Bimbaguinea"/>
          <p:cNvPicPr/>
          <p:nvPr/>
        </p:nvPicPr>
        <p:blipFill>
          <a:blip r:embed="rId3"/>
          <a:stretch/>
        </p:blipFill>
        <p:spPr>
          <a:xfrm rot="639600">
            <a:off x="4716360" y="3933720"/>
            <a:ext cx="3146400" cy="2092320"/>
          </a:xfrm>
          <a:prstGeom prst="rect">
            <a:avLst/>
          </a:prstGeom>
          <a:ln w="0">
            <a:noFill/>
          </a:ln>
        </p:spPr>
      </p:pic>
    </p:spTree>
  </p:cSld>
  <p:transition advTm="15000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11.Se i conflitti non si riescono a risolvere, cercare aiuto nella mediazione di altr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mediando_01"/>
          <p:cNvPicPr/>
          <p:nvPr/>
        </p:nvPicPr>
        <p:blipFill>
          <a:blip r:embed="rId1"/>
          <a:stretch/>
        </p:blipFill>
        <p:spPr>
          <a:xfrm rot="1020000">
            <a:off x="6877080" y="2133720"/>
            <a:ext cx="1638360" cy="1562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Casa_dei_conflitti_1"/>
          <p:cNvPicPr/>
          <p:nvPr/>
        </p:nvPicPr>
        <p:blipFill>
          <a:blip r:embed="rId2"/>
          <a:stretch/>
        </p:blipFill>
        <p:spPr>
          <a:xfrm>
            <a:off x="4500720" y="2781360"/>
            <a:ext cx="2016000" cy="1458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3" descr="conflitto"/>
          <p:cNvPicPr/>
          <p:nvPr/>
        </p:nvPicPr>
        <p:blipFill>
          <a:blip r:embed="rId3"/>
          <a:stretch/>
        </p:blipFill>
        <p:spPr>
          <a:xfrm>
            <a:off x="5148360" y="4581360"/>
            <a:ext cx="3524040" cy="16956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4"/>
          <p:cNvSpPr/>
          <p:nvPr/>
        </p:nvSpPr>
        <p:spPr>
          <a:xfrm>
            <a:off x="324000" y="4724280"/>
            <a:ext cx="4103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cc0000"/>
                </a:solidFill>
                <a:latin typeface="Arial"/>
              </a:rPr>
              <a:t>Ricordiamoci: gli altri ci possono aiut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250920" y="1700280"/>
            <a:ext cx="367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 ognuno di noi è capitato di essere in conflitto con qualcuno:un compagno, un parente, un vicino di casa. In questo senso il conflitto è un’esperienza di vita  dolorosa che tutti sperimentiamo, ma che si può affrontare e super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12.Sviluppare un comportamento assertivo: fare qualcosa che sia positivo in ugual misura per sé e per gli alt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me si comporta una persona assertiv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È attenta a sè ed agli altr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on è condizionata dagli alt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tilizza metodi corretti, motivanti e gratificanti, per sé e per gli alt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Che cosa provoca il comportamento assertivo?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ttenta considerazione degli altr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iducia in sè e negli altr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celte autonome, fuori, dal “branc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ispetto della dignità propria e altru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Sociali"/>
          <p:cNvPicPr/>
          <p:nvPr/>
        </p:nvPicPr>
        <p:blipFill>
          <a:blip r:embed="rId1"/>
          <a:stretch/>
        </p:blipFill>
        <p:spPr>
          <a:xfrm rot="982800">
            <a:off x="4643280" y="2492280"/>
            <a:ext cx="4038840" cy="3306960"/>
          </a:xfrm>
          <a:prstGeom prst="rect">
            <a:avLst/>
          </a:prstGeom>
          <a:ln w="0">
            <a:noFill/>
          </a:ln>
        </p:spPr>
      </p:pic>
    </p:spTree>
  </p:cSld>
  <p:transition advTm="15000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picasso_pa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Le regole principal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Vivere onesta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Dare a ciascuno ciò che ha diritto di av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Fare il bene, semp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onoscere i propri doveri e i propri diritti, rispettando le regole della comun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Non danneggiare mai consapevolmente niente e nessu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Ribellarsi all’indifferenza, all’omertà, al silenzio, per migliorare il luogo in cui si vive e le abitudini sbagliate di molte pers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Dare notizia all’autorità giudiziaria di qualsiasi reato si venga a conosce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mmettere,in caso di errori, di aver sbagliato e avere abbastanza autostima da sapere che si può ricominci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Favorire l’integrazione nella società delle persone diverse da n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iutare generosamente le persone che sono in difficol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Se i conflitti non si riescono a risolvere, cercare forme di mediazi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Sviluppare un comportamento assertivo: fare qualcosa che è positivo in ugual misura per sé e per gli altr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1.Vivere onestam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56000" y="1268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Con la stessa facilità con cui il vento</a:t>
            </a:r>
            <a:br>
              <a:rPr sz="2400"/>
            </a:b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Sradica un fragile albero</a:t>
            </a:r>
            <a:br>
              <a:rPr sz="2400"/>
            </a:b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Le tentazioni trascinano</a:t>
            </a:r>
            <a:br>
              <a:rPr sz="2400"/>
            </a:b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Chi è alla ricerca del piacere,</a:t>
            </a:r>
            <a:br>
              <a:rPr sz="2400"/>
            </a:b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Chi è avido, pigro e debo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Ma come il vento</a:t>
            </a:r>
            <a:br>
              <a:rPr sz="2400"/>
            </a:b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Non riesce ad abbattere un montagna,</a:t>
            </a:r>
            <a:br>
              <a:rPr sz="2400"/>
            </a:b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Nessuna tentazione scuote</a:t>
            </a:r>
            <a:br>
              <a:rPr sz="2400"/>
            </a:b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Chi è desto, energico,</a:t>
            </a:r>
            <a:br>
              <a:rPr sz="2400"/>
            </a:b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Fiducioso e vive semplice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2.Dare a ciascuno quello che ha il diritto di av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76720" y="1557000"/>
            <a:ext cx="4067280" cy="504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20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Dai il meglio di te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66ff"/>
                </a:solidFill>
                <a:latin typeface="Times New Roman"/>
              </a:rPr>
              <a:t>      </a:t>
            </a:r>
            <a:r>
              <a:rPr b="1" i="1" lang="it-IT" sz="2000" spc="-1" strike="noStrike">
                <a:solidFill>
                  <a:srgbClr val="ff0066"/>
                </a:solidFill>
                <a:latin typeface="Times New Roman"/>
              </a:rPr>
              <a:t>Se fai il bene, ti attribuiranno </a:t>
            </a:r>
            <a:br>
              <a:rPr sz="2000"/>
            </a:br>
            <a:r>
              <a:rPr b="1" i="1" lang="it-IT" sz="2000" spc="-1" strike="noStrike">
                <a:solidFill>
                  <a:srgbClr val="ff0066"/>
                </a:solidFill>
                <a:latin typeface="Times New Roman"/>
              </a:rPr>
              <a:t>secondi fini egoistici</a:t>
            </a:r>
            <a:br>
              <a:rPr sz="2000"/>
            </a:br>
            <a:r>
              <a:rPr b="1" i="1" lang="it-IT" sz="2000" spc="-1" strike="noStrike">
                <a:solidFill>
                  <a:srgbClr val="ff0066"/>
                </a:solidFill>
                <a:latin typeface="Times New Roman"/>
              </a:rPr>
              <a:t>non importa, fa' il bene.</a:t>
            </a:r>
            <a:br>
              <a:rPr sz="2000"/>
            </a:br>
            <a:r>
              <a:rPr b="1" i="1" lang="it-IT" sz="2000" spc="-1" strike="noStrike">
                <a:solidFill>
                  <a:srgbClr val="ff0066"/>
                </a:solidFill>
                <a:latin typeface="Times New Roman"/>
              </a:rPr>
              <a:t>Se realizzi i tuoi obiettivi,</a:t>
            </a:r>
            <a:br>
              <a:rPr sz="2000"/>
            </a:br>
            <a:r>
              <a:rPr b="1" i="1" lang="it-IT" sz="2000" spc="-1" strike="noStrike">
                <a:solidFill>
                  <a:srgbClr val="ff0066"/>
                </a:solidFill>
                <a:latin typeface="Times New Roman"/>
              </a:rPr>
              <a:t>troverai falsi amici e veri nemici</a:t>
            </a:r>
            <a:br>
              <a:rPr sz="2000"/>
            </a:br>
            <a:r>
              <a:rPr b="1" i="1" lang="it-IT" sz="2000" spc="-1" strike="noStrike">
                <a:solidFill>
                  <a:srgbClr val="ff0066"/>
                </a:solidFill>
                <a:latin typeface="Times New Roman"/>
              </a:rPr>
              <a:t>non importa realizzali.</a:t>
            </a:r>
            <a:br>
              <a:rPr sz="2000"/>
            </a:br>
            <a:r>
              <a:rPr b="1" i="1" lang="it-IT" sz="2000" spc="-1" strike="noStrike">
                <a:solidFill>
                  <a:srgbClr val="ff0066"/>
                </a:solidFill>
                <a:latin typeface="Times New Roman"/>
              </a:rPr>
              <a:t>Il bene che fai verrà domani</a:t>
            </a:r>
            <a:br>
              <a:rPr sz="2000"/>
            </a:br>
            <a:r>
              <a:rPr b="1" i="1" lang="it-IT" sz="2000" spc="-1" strike="noStrike">
                <a:solidFill>
                  <a:srgbClr val="ff0066"/>
                </a:solidFill>
                <a:latin typeface="Times New Roman"/>
              </a:rPr>
              <a:t>dimenticato.</a:t>
            </a:r>
            <a:br>
              <a:rPr sz="2000"/>
            </a:br>
            <a:r>
              <a:rPr b="1" i="1" lang="it-IT" sz="2000" spc="-1" strike="noStrike">
                <a:solidFill>
                  <a:srgbClr val="ff0066"/>
                </a:solidFill>
                <a:latin typeface="Times New Roman"/>
              </a:rPr>
              <a:t>Non importa fa' il bene</a:t>
            </a:r>
            <a:br>
              <a:rPr sz="2000"/>
            </a:br>
            <a:r>
              <a:rPr b="1" i="1" lang="it-IT" sz="2000" spc="-1" strike="noStrike">
                <a:solidFill>
                  <a:srgbClr val="ff0066"/>
                </a:solidFill>
                <a:latin typeface="Times New Roman"/>
              </a:rPr>
              <a:t>L'onestà e la sincerità ti </a:t>
            </a:r>
            <a:br>
              <a:rPr sz="2000"/>
            </a:br>
            <a:r>
              <a:rPr b="1" i="1" lang="it-IT" sz="2000" spc="-1" strike="noStrike">
                <a:solidFill>
                  <a:srgbClr val="ff0066"/>
                </a:solidFill>
                <a:latin typeface="Times New Roman"/>
              </a:rPr>
              <a:t>rendono vulnerabile</a:t>
            </a:r>
            <a:br>
              <a:rPr sz="2000"/>
            </a:br>
            <a:r>
              <a:rPr b="1" i="1" lang="it-IT" sz="2000" spc="-1" strike="noStrike">
                <a:solidFill>
                  <a:srgbClr val="ff0066"/>
                </a:solidFill>
                <a:latin typeface="Times New Roman"/>
              </a:rPr>
              <a:t>non importa, sii franco</a:t>
            </a:r>
            <a:br>
              <a:rPr sz="2000"/>
            </a:br>
            <a:r>
              <a:rPr b="1" i="1" lang="it-IT" sz="2000" spc="-1" strike="noStrike">
                <a:solidFill>
                  <a:srgbClr val="ff0066"/>
                </a:solidFill>
                <a:latin typeface="Times New Roman"/>
              </a:rPr>
              <a:t>e onesto. </a:t>
            </a:r>
            <a:br>
              <a:rPr sz="2000"/>
            </a:br>
            <a:r>
              <a:rPr b="1" i="1" lang="it-IT" sz="2000" spc="-1" strike="noStrike">
                <a:solidFill>
                  <a:srgbClr val="ff0066"/>
                </a:solidFill>
                <a:latin typeface="Times New Roman"/>
              </a:rPr>
              <a:t>Dà al mondo il meglio di te, e ti</a:t>
            </a:r>
            <a:br>
              <a:rPr sz="2000"/>
            </a:br>
            <a:r>
              <a:rPr b="1" i="1" lang="it-IT" sz="2000" spc="-1" strike="noStrike">
                <a:solidFill>
                  <a:srgbClr val="ff0066"/>
                </a:solidFill>
                <a:latin typeface="Times New Roman"/>
              </a:rPr>
              <a:t>prenderanno a calci.</a:t>
            </a:r>
            <a:br>
              <a:rPr sz="2000"/>
            </a:br>
            <a:r>
              <a:rPr b="1" i="1" lang="it-IT" sz="2000" spc="-1" strike="noStrike">
                <a:solidFill>
                  <a:srgbClr val="ff0066"/>
                </a:solidFill>
                <a:latin typeface="Times New Roman"/>
              </a:rPr>
              <a:t>Non importa, dà il meglio di te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it-IT" sz="2000" spc="-1" strike="noStrike">
                <a:solidFill>
                  <a:srgbClr val="ff0066"/>
                </a:solidFill>
                <a:latin typeface="Times New Roman"/>
              </a:rPr>
              <a:t>(Madre Teresa di Calcutta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324000" y="2276640"/>
            <a:ext cx="446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3.Fare il bene,    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  semp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it-IT" sz="3400" spc="-1" strike="noStrike">
                <a:solidFill>
                  <a:srgbClr val="000000"/>
                </a:solidFill>
                <a:latin typeface="Arial"/>
              </a:rPr>
              <a:t>4. Conoscere i propri doveri e i propri   </a:t>
            </a:r>
            <a:br>
              <a:rPr sz="3400"/>
            </a:br>
            <a:r>
              <a:rPr b="0" lang="it-IT" sz="3400" spc="-1" strike="noStrike">
                <a:solidFill>
                  <a:srgbClr val="000000"/>
                </a:solidFill>
                <a:latin typeface="Arial"/>
              </a:rPr>
              <a:t>        diritti,rispettando le regole della   </a:t>
            </a:r>
            <a:br>
              <a:rPr sz="3400"/>
            </a:br>
            <a:r>
              <a:rPr b="0" lang="it-IT" sz="3400" spc="-1" strike="noStrike">
                <a:solidFill>
                  <a:srgbClr val="000000"/>
                </a:solidFill>
                <a:latin typeface="Arial"/>
              </a:rPr>
              <a:t>        comunità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1" descr="untitled"/>
          <p:cNvPicPr/>
          <p:nvPr/>
        </p:nvPicPr>
        <p:blipFill>
          <a:blip r:embed="rId1"/>
          <a:stretch/>
        </p:blipFill>
        <p:spPr>
          <a:xfrm>
            <a:off x="925560" y="1600200"/>
            <a:ext cx="3100320" cy="2185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bambina_g"/>
          <p:cNvPicPr/>
          <p:nvPr/>
        </p:nvPicPr>
        <p:blipFill>
          <a:blip r:embed="rId2"/>
          <a:stretch/>
        </p:blipFill>
        <p:spPr>
          <a:xfrm>
            <a:off x="5219640" y="1413000"/>
            <a:ext cx="1803600" cy="2546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giornali"/>
          <p:cNvPicPr/>
          <p:nvPr/>
        </p:nvPicPr>
        <p:blipFill>
          <a:blip r:embed="rId3"/>
          <a:stretch/>
        </p:blipFill>
        <p:spPr>
          <a:xfrm>
            <a:off x="1332000" y="4149720"/>
            <a:ext cx="2187360" cy="2187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" descr="verte-Small-151323_L"/>
          <p:cNvPicPr/>
          <p:nvPr/>
        </p:nvPicPr>
        <p:blipFill>
          <a:blip r:embed="rId4"/>
          <a:stretch/>
        </p:blipFill>
        <p:spPr>
          <a:xfrm>
            <a:off x="5148360" y="4005360"/>
            <a:ext cx="1797120" cy="26924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7"/>
          <p:cNvSpPr/>
          <p:nvPr/>
        </p:nvSpPr>
        <p:spPr>
          <a:xfrm>
            <a:off x="1024920" y="3448080"/>
            <a:ext cx="27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RITTO ALLA LIBERT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8"/>
          <p:cNvSpPr/>
          <p:nvPr/>
        </p:nvSpPr>
        <p:spPr>
          <a:xfrm>
            <a:off x="7308720" y="1484280"/>
            <a:ext cx="183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IRITTO 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OVE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LL’ISTRU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9"/>
          <p:cNvSpPr/>
          <p:nvPr/>
        </p:nvSpPr>
        <p:spPr>
          <a:xfrm>
            <a:off x="1403280" y="6308640"/>
            <a:ext cx="22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IRITTO DI PARO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0"/>
          <p:cNvSpPr/>
          <p:nvPr/>
        </p:nvSpPr>
        <p:spPr>
          <a:xfrm>
            <a:off x="7072200" y="4048200"/>
            <a:ext cx="177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RISPET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ELL’AMB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b5ffb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5.Non danneggiare mai consapevolmente niente e nessu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rispetto non è ossequio, deferenza, riverenz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’ attenzione, considerazione e riguardo per le persone, le istituzioni e le cose. E’ la prima categoria d’ogni forma educativa che non può essere insegnata, ma che si apprende con l’esempio, la prassi, l’imitazione e l’identificazio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aiooo"/>
          <p:cNvPicPr/>
          <p:nvPr/>
        </p:nvPicPr>
        <p:blipFill>
          <a:blip r:embed="rId1"/>
          <a:stretch/>
        </p:blipFill>
        <p:spPr>
          <a:xfrm>
            <a:off x="5219640" y="1628640"/>
            <a:ext cx="2914560" cy="2186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RISPETTO"/>
          <p:cNvPicPr/>
          <p:nvPr/>
        </p:nvPicPr>
        <p:blipFill>
          <a:blip r:embed="rId2"/>
          <a:stretch/>
        </p:blipFill>
        <p:spPr>
          <a:xfrm>
            <a:off x="5148360" y="4076640"/>
            <a:ext cx="3098880" cy="2187720"/>
          </a:xfrm>
          <a:prstGeom prst="rect">
            <a:avLst/>
          </a:prstGeom>
          <a:ln w="0">
            <a:noFill/>
          </a:ln>
        </p:spPr>
      </p:pic>
    </p:spTree>
  </p:cSld>
  <p:transition advTm="15000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6.Ribellarsi all’indifferenza, all’omertà, al silenzio, per migliorare il luogo in cui si vive e le abitudini sbagliate di molte pers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576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slamabad, 18 feb. (Adnkronos) - Ad appena 11 anni Tuba Sahaab ha ingaggiato una personale battaglia a colpi di poesie contro i talebani dalla periferia di Islamabad dove vive. In un Pakistan dove molte bambine non possono frequentare la scuola e i loro libri vengono bruciati, Tuba non e' stata ridotta al silenzio dagli estremisti islamici. Scrive versi che raccontano il dolore e le sofferenze dei piccoli come lei, non temendo di dire a voce alta cio' che pens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7.Dare notizia all’autorità giudiziaria di qualsiasi reato si venga a conoscen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ROMA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- Uno studente di quindici anni di Sannicola (Lecce) affidato ad una comunità di recupero dai carabinieri per essersi reso protagonista di ripetuti atti di bullismo nella sua scuola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È successo in un istituto superiore di Gallipoli. È una brutta storia di estorsioni, di botte, di silenzi e indifferenza consumata in una comunità dove si lavora per educare i giovani. Tutto parte dalla denuncia di una madre. Il figlio tornava a casa con dei lividi. La donna scopre che il ragazzo subiva le angherie di un compagno, il classico bullo, che con minacce gli portava via la paghetta: dieci, venti euro. Altrimenti erano botte. Il ragazzo viene affidato ad una comunità di recuper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6903-tribunale"/>
          <p:cNvPicPr/>
          <p:nvPr/>
        </p:nvPicPr>
        <p:blipFill>
          <a:blip r:embed="rId1"/>
          <a:stretch/>
        </p:blipFill>
        <p:spPr>
          <a:xfrm>
            <a:off x="4716360" y="1914480"/>
            <a:ext cx="4176720" cy="3654360"/>
          </a:xfrm>
          <a:prstGeom prst="rect">
            <a:avLst/>
          </a:prstGeom>
          <a:ln w="0">
            <a:noFill/>
          </a:ln>
        </p:spPr>
      </p:pic>
    </p:spTree>
  </p:cSld>
  <p:transition advTm="15000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5c00"/>
            </a:gs>
            <a:gs pos="100000">
              <a:srgbClr val="ff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8.Ammettere,in caso di errori, di aver sbagliato e avere abbastanza autostima da sapere che si può ricominci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1400" spc="-1" strike="noStrike">
                <a:solidFill>
                  <a:srgbClr val="000000"/>
                </a:solidFill>
                <a:latin typeface="Lucida Calligraphy"/>
              </a:rPr>
              <a:t>Ammettere gli errori è una cosa incredibile. Richiede veramente uno sforzo sovrumano per la maggior parte delle persone; perché significa ammettere la nostra fallibilità. Poi ci si rende conto che ammettere apertamente uno sbaglio ci farà stare meglio, perché ammettere gli errori è la prima parte di qualunque rapporto. Quella parte di noi che cade e dice "</a:t>
            </a:r>
            <a:r>
              <a:rPr b="0" i="1" lang="it-IT" sz="1400" spc="-1" strike="noStrike">
                <a:solidFill>
                  <a:srgbClr val="000000"/>
                </a:solidFill>
                <a:latin typeface="Lucida Calligraphy"/>
              </a:rPr>
              <a:t>cavoli, non so ancora camminare</a:t>
            </a:r>
            <a:r>
              <a:rPr b="0" lang="it-IT" sz="1400" spc="-1" strike="noStrike">
                <a:solidFill>
                  <a:srgbClr val="000000"/>
                </a:solidFill>
                <a:latin typeface="Lucida Calligraphy"/>
              </a:rPr>
              <a:t>" e che si rialza di volta in volta. Quella parte che impara e impara e impara. Perchè sa di non essere ancora dove vorrebbe.</a:t>
            </a:r>
            <a:br>
              <a:rPr sz="1400"/>
            </a:br>
            <a:r>
              <a:rPr b="0" lang="it-IT" sz="1400" spc="-1" strike="noStrike">
                <a:solidFill>
                  <a:srgbClr val="000000"/>
                </a:solidFill>
                <a:latin typeface="Lucida Calligraphy"/>
              </a:rPr>
              <a:t>Ogni nostra crescita parte dai nostri errori, e prima ancora da noi stessi.</a:t>
            </a:r>
            <a:br>
              <a:rPr sz="1400"/>
            </a:br>
            <a:r>
              <a:rPr b="0" lang="it-IT" sz="1400" spc="-1" strike="noStrike">
                <a:solidFill>
                  <a:srgbClr val="000000"/>
                </a:solidFill>
                <a:latin typeface="Lucida Calligraphy"/>
              </a:rPr>
              <a:t>Ma se non facciamo errori allora non potremmo mai cresc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200px-Errare_humanum_est"/>
          <p:cNvPicPr/>
          <p:nvPr/>
        </p:nvPicPr>
        <p:blipFill>
          <a:blip r:embed="rId1"/>
          <a:stretch/>
        </p:blipFill>
        <p:spPr>
          <a:xfrm rot="1272000">
            <a:off x="5003280" y="2421000"/>
            <a:ext cx="3743640" cy="2720880"/>
          </a:xfrm>
          <a:prstGeom prst="rect">
            <a:avLst/>
          </a:prstGeom>
          <a:ln w="0">
            <a:noFill/>
          </a:ln>
        </p:spPr>
      </p:pic>
    </p:spTree>
  </p:cSld>
  <p:transition advTm="15000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08:15:51Z</dcterms:created>
  <dc:creator>Alunni</dc:creator>
  <dc:description/>
  <dc:language>en-US</dc:language>
  <cp:lastModifiedBy>DOCENTE</cp:lastModifiedBy>
  <dcterms:modified xsi:type="dcterms:W3CDTF">2019-11-29T09:07:46Z</dcterms:modified>
  <cp:revision>5</cp:revision>
  <dc:subject/>
  <dc:title>LE REGOLE DEL BUON CITTADINO</dc:title>
</cp:coreProperties>
</file>